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7D4-B448-4103-BC3B-54C65CC5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5F8-E2D1-4480-8EEB-70043478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9D8-4F67-44B8-AB1C-DD192FDD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700-BAC3-4D53-B833-7EB9FD5F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5C3F-02BA-4764-A2A9-D80EA28E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38BC-7E51-4BB7-9EB5-1DE8D8AE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6EF9-550C-4654-8492-5F9BFE90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72A2-1BA9-4235-A969-7EE287F9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742F-8660-43EF-8686-FAFA70F9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F959-2689-401A-B373-64C85DA9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8B48-96CF-4E15-871B-5E11ABB6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5C1-6A99-4B8F-BDA7-D253DE42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BEDE-0131-43AA-BB3D-E383599A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DD0E-26DB-473D-A41F-50945AE8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0CCF-F3FA-4C59-B4F9-F3CBA1FD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89B9-77E7-435A-AE62-756001BC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14D1-4B01-401C-8FA8-F0A36A31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486-3655-4514-9E68-41C008DA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A70-4B0B-4B38-977B-93FB1EDD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1332-BB62-4B17-A8EE-8C493503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6ED-2185-49E2-8F9B-83738E6D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1F2-B8BE-44BC-ADAC-94F39964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1C5-41E7-4350-BE48-7259151B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9ED-3D5D-4D3A-9D98-D89BD90E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DF02-56ED-4852-9C3A-C5B6CF7190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AB7E-927C-469F-8B81-F6135DB8DF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A Remnant Shall Retur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8, Lesson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33-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4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stiny of Jerusalem and its Inhabitants Signifie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zek. 4:1 – 5: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iege of Jerusalem is signified – 4:1-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sual aids to impress upon the people their humiliating pl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 portraying the impending destiny of the people – 5:1-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 interprets the signs – 5:5-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ing Fall of Jerusalem: “I am against you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/3 die of pestil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/3 die by s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/3 scatt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2880" y="5257800"/>
            <a:ext cx="15908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e Revelation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Judgment upon idolatrous places and upon idol-worshiper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.6:1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false gods would not help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y saw Ezekiel’s words come true, they would KN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the Lor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 bad they had to see awful death and hardship to see what should have been obvi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Overthrow of Israel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zek.7:1-27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n Causing This Judgmen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olatry – 7:1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d – 7:19-2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shed – 7: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de – 7: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everity of this Judgmen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ous disaster &amp; calamity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:5-6,22,25-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pity from God – 7:7-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gues inside the city; the sword outside 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-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3757680"/>
            <a:ext cx="4191120" cy="3100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5043600" cy="2800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099040" y="533520"/>
            <a:ext cx="4044960" cy="5029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102360" y="3505320"/>
            <a:ext cx="3041640" cy="3352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705720" y="3048120"/>
            <a:ext cx="30456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mall-scale modern day recreation of the temple in Jerusa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God Takes His Presence From The Temple and Jerusalem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leaves them to be destroyed – 8:1 – 11: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bomination of idolatry in the temple -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troyers come – 9:1-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ning of Jerusalem – 10:1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rd withdraws from the sanctuary – 10:3-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arning of judgment and a promise of mercy – 11:1-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lus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3:53:33Z</dcterms:created>
  <dc:creator>Terry W. Benton</dc:creator>
  <dc:description/>
  <dc:language>en-US</dc:language>
  <cp:lastModifiedBy>Frank D Vines</cp:lastModifiedBy>
  <dcterms:modified xsi:type="dcterms:W3CDTF">2007-02-01T15:55:43Z</dcterms:modified>
  <cp:revision>6</cp:revision>
  <dc:subject/>
  <dc:title>A Remnant Shall Return</dc:title>
</cp:coreProperties>
</file>